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75E-F477-4330-8630-4C852BD8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C0C-9A61-48FC-A4D8-F3F90950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1F4-6D3E-4195-A024-0D05BE6E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286-DA19-4C2B-B129-D5151D8F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2D6E-7355-41A0-B7CF-2524A48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D274-5F77-4DED-BA14-D508FDE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DF38-8E9C-4992-B02F-CF0BEA22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ADD3-28F6-4C7E-83F7-79A76FE5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EF81-BE47-4807-B93E-6AA2322D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D72F-B729-4084-9741-DF44AD40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09AA-EDE0-4DFD-B5AA-4786473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CCF-9A91-45F9-93F6-9C11256D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7FF0-0E77-4CAE-840C-4DA5399E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F9B1-0E79-4B4C-9A1C-221FB1A4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5AFD-9338-47A0-9DF5-37B9309D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E750-C8D3-4293-B7B9-930F43EC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B82F-394F-461D-B0E5-38F65B75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A0A-4D35-488D-8848-6FD14FEE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989-EA47-465B-9923-2946B990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852-6F07-4788-AF24-454C0DAE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3D2-9246-4ACD-995D-45F284FF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EE4-2FA0-4BAE-AF75-9269B35E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6CC-E7D6-47A7-9EB1-FC55DA19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1EA-B78B-49DD-A58A-F97DC4F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4D71-392B-4A82-BC6C-81D9983BB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402F-3DF2-4AA9-9E9E-F17D849D0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answers.com/Q/How_many_Calories_burned_playing_volleyball#ixzz1OmokPAn8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tday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ying Fit in Taneytow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Will, Kane, Mason, Brooke, Savannah, Carver, Robert, D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3045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3612960"/>
            <a:ext cx="854064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at being said, and with all things being considered equal, a 160 lb person riding for 60 minutes at a speed of 12-14 mph would burn somewhere around 634 calories. Ride a little faster and you'll end up burning around 750 calori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Calories burne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ying fit at Roberts Mill Pa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oke, Savann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berts Mill Pa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rts Mill Park is one of the most beautiful serene parks in Taneytown. The Park sits on 19.3 acres of open lush green land. This Park also contains a pond that is fed by natural springs in the park. The pond is home to a variety of different animals and wildlife. Robert’s Mill Park contains something for everyone. Soccer/Lacrosse fields with lighting, full basketball court, fenced in playground (security for pond), sand volleyball court, three picnic pavilions, restrooms and parking. There is now a lighted walking trail around the po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4520" y="6056280"/>
            <a:ext cx="51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berts Mill Par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501 Stumptown Road, Taneytown, Maryl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906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ccer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epends on your weight and how hard you work during the game,. For example, if you are approximately 165lbs (75kg), for one hour you would burn about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25 calories - casual socc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calories - competitive soc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0200" y="6056280"/>
            <a:ext cx="50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cer is fun and it is a grate way to stay ac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fully this will help your caus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urn about 500 calories for every hour of full court 5 on 5 basketball you pl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57320" y="369396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ketball is a good way to burn calories and have f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06720" y="437976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ee carvers for more inform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lley bal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alorie needs depend on the intensity and duration of your training and competition, as well as your age, gender, height, and weight. A 130-pound volleyb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yer uses about 8.4 calories per minute of vigorous volleyball play. A 180-pound athlete burns about 10.4 calories per minute of play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alorie needs depend on the intensity and duration of your training and competition, as well as your age, gender, height, and weight. A 130-pound volleyb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yer uses about 8.4 calories per minute of vigorous volleyball play. A 180-pound athlete burns about 10.4 calories per minute of play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6080" y="4913280"/>
            <a:ext cx="82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ley ball is a  fun sport to play with friends and family and a grate way to b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80" y="5675400"/>
            <a:ext cx="108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more: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iki.answers.com/Q/How_many_Calories_burned_playing_volleyball#ixzz1OmokPAn8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cross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rosse is a fast moving spo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0 people from a team on the field at a time (20 people on the field total). There are 3 attackmen, 3 middies, 3 defensemen and 1 goal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23480" y="44197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26 a calories h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?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ould like to help the Taneytown Community stay fit by setting way points in Taneytown using Google earth and Google ma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described the activities that you can do at the points in this pres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s get started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ying fit with bowl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: THUNDER HEAD BOWLING ALL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Kane &amp; Ma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99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How many calories you can burn bowling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figure out how man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o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 can burn while bowling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NDER HEAD BOWLING ALLEY, by using fitday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’s an example. How many calories do you burn during Bowling based 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: 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: 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: 18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ories Burned: 105 calori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fun and eas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n’t cost a whole l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ident does it. Besides all of his interviews. He goes bowling on his fre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fitday_logo" descr="FitDay.com - Free Online Weight Loss Journ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5257800"/>
            <a:ext cx="2743200" cy="743040"/>
          </a:xfrm>
          <a:prstGeom prst="rect">
            <a:avLst/>
          </a:prstGeom>
          <a:ln w="0">
            <a:noFill/>
          </a:ln>
        </p:spPr>
      </p:pic>
      <p:pic>
        <p:nvPicPr>
          <p:cNvPr id="92" name="barack-obama-in-bowling-shoes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029200" y="3679920"/>
            <a:ext cx="3695760" cy="2587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00" y="-72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0" y="651600"/>
            <a:ext cx="7495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0" y="4542840"/>
            <a:ext cx="112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asons to go Bowl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 loves to bow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ould bowl too…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00" y="1429560"/>
            <a:ext cx="475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aa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600880" cy="3676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582280" y="1371600"/>
            <a:ext cx="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ying Fit bik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Passing Through Mayber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Will &amp; D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3045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3352320"/>
            <a:ext cx="8540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. How many calories do you burn during biking based 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: 90 l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: 59 i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: 18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ories Burned: 186 calories per h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2971800" cy="195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48120" y="-38088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86680" y="-228600"/>
            <a:ext cx="2857320" cy="177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33720" y="2735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05120"/>
            <a:ext cx="899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How many calories you can burn biking in Taneytow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3612960"/>
            <a:ext cx="854064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ity calories bu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ycling – leisure                      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ycling / biking – mountain      3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ycling / cycling 12-14 mph     3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ycling / cycling 14-16 mph     4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Calories Burned            1,4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8380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Calories Burned in 1 ho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66688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lso considered several styles of riding and we hope you enjoy the style that you enjoy the m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3:14:53Z</dcterms:created>
  <dc:creator>40010911</dc:creator>
  <dc:description/>
  <dc:language>en-US</dc:language>
  <cp:lastModifiedBy>40012803</cp:lastModifiedBy>
  <dcterms:modified xsi:type="dcterms:W3CDTF">2011-06-09T18:11:06Z</dcterms:modified>
  <cp:revision>29</cp:revision>
  <dc:subject/>
  <dc:title>Staying fit with bowling</dc:title>
</cp:coreProperties>
</file>